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7B8-D9C5-49DA-8456-0CB03C57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A3A-ADA9-4139-B28E-70042B5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44A-2530-4285-97DF-7C33DACB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256-4A6D-44A6-BBCB-956A7195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388-42C6-43B3-8A33-F65420E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A6B-79B6-4045-A991-FF4CCBAF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765-AFD2-4F2E-B6B1-5B2804E7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9DD-C746-4D97-A7E4-50CC8FFC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806-026F-499F-8522-7E211E41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167-5F9D-4F7F-BE39-4815C5B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702-2A83-4D00-A3D7-3545011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58A-E315-49ED-897D-C5F2393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9D20-900F-49F6-91D9-DA63C9EDD9E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THIRTE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4200" y="145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οὐν τῳ Πιλατῳ οἱ ἀρχιερεις των Ἰουδαιων∙ Μη γραφε∙ Ὁ βασιλευς των Ἰουδαιων, ἀλλ’ ὁτι ἐκεινος εἰπεν, Βασιλευς εἰμι των Ἰουδαι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δε Ἰησους εἰπεν αὐτῳ∙ Τί με λεγεις ἀγαθ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δεις ἀγαθος εἰ μη εἱς ὁ θε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ἡ χαρις του κυριου Ἰησου Χριστου και ἡ ἀγαπη του θεου και ἡ κοινωνι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ellowshi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υ ἁγιου πνευματος μετα παντων ὑμ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καλειτε τινα Ῥαββι∙ εἱς γαρ ἐστιν ὑμων ὁ διδασκαλ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each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παντες δε ὑμεις ἀδελφοι ἐστ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ὁ Πετρος λεγει τῳ Ἰησου∙ Ῥαββι, καλον ἐστιν ἡμας ὡδε εἰναι, και οἰδοκομησομεν τρεις σκην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ree tent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μιν, σοι μιαν και Μωϋσει μιαν και Ἠλιᾳ μι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σονται οἱ δυο εἰς σαρκα μιαν∙ οὑτως οὐκετι εἰσιν δυο ἀλλα μια σαρ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112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14200" y="1357200"/>
            <a:ext cx="8643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πας ὁ ὀχλος ἐζητουν ἁπτεσθαι αὐτου, ὁτι δυναμις παρ’ αὐτου ἐξηρχετο και ἐθεραπευεν παντ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ξηλθον οἱ μαθηται και ἠλθον εἰς την πολιν και εὑρον καθως εἰπεν αὐτο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one of the scribes, having approached, said to him, ‘Rabbi, I will follow you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he will be king over the house of Jacob forever, and of his kingdom there will not be an e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this world you have suffering, but you have peace in 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go out into resurrection of life, but others to a resurrection of judg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3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84644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ρχεται εἱς των ἀρχισυναγωνων, ὀνοματι Ἰαϊρος, και ἰδων αὐτον πιπτει προς τους ποδας αὐτ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νους ἐν τῳ σκοτει ἐργαζεται πονηρα τῃ συνειδησει τῃ κακ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 δε πληθος ἐπι τῳ ὀρει αἰτησει την παρακλησιν ἀπο  του κυρι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ἑν ἐτος  ὁ ἀρχιερευς ἠν ἀσθενη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ς δεξεται το ἐλεος του βασιλε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δεις ἠ π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ἁπασιν μεν ἡ γνωσις της ἀναστασεως, πολλων δε ὁ νους ἐν σκοτε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14200" y="13572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 του Μωϋσεως λεγει περι του ἐλεους του ἀληθους θε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ἀπεστειλεν αὐτους κηρυσσειν την βασιλειαν του θεου και θεραπευειν παντας τους ἀσθενε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ur nation has knowledge about the blind and the we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received from his father his part of their proper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are all members of the body of Chri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will be suffering for everybody, good and b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5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500120"/>
            <a:ext cx="77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hew 28.18-2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προσελθὼν ὁ Ἰησοῦς ἐλάλησεν αὐτοῖς λέγων, Ἐδό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s been giv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οι πᾶσα ἐξουσία ἐν οὐρανῷ καὶ ἐπὶ τῆς γῆ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πορευθέντ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ὖν μαθητεύσατε [μαθητευω = μαθητης ποιω] πάντα τὰ ἔθνη, βαπτίζοντες αὐτοὐς εἰς τὸ ὄνομα τοῦ πατρὸς καὶ τοῦ υἱοῦ καὶ τοῦ ἁγίου πνεύματος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2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διδάσκοντες αὐτοὺς τηρεῖν πάντα ὅσα ἐνετειλάμην [ἐντελλομαι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comm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μῖν∙ καὶ ἰδοὺ ἐγὼ μεθ’ ὑμῶν εἰμι πάσας τὰς ἡμέρας ἕως τῆς συντελ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ῦ αἰῶν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6:56Z</dcterms:created>
  <dc:creator>Sarah</dc:creator>
  <dc:description/>
  <dc:language>en-US</dc:language>
  <cp:lastModifiedBy>Sarah</cp:lastModifiedBy>
  <dcterms:modified xsi:type="dcterms:W3CDTF">2008-09-25T08:10:39Z</dcterms:modified>
  <cp:revision>16</cp:revision>
  <dc:subject/>
  <dc:title>Slide 1</dc:title>
</cp:coreProperties>
</file>